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8AC-FFE0-420A-8AF3-BAD222C6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78A-0752-4005-915D-F89D19B8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27D-6E4F-4E53-9632-A98DA0BD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1A1-DFCA-4DCA-9843-994FAD9A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649-9900-4C4A-B71D-DC9E881D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B32-B381-42DB-BDFE-C94321B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0AC-FDC4-4D5F-97FB-47C09753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52E-17D0-404C-9642-4B33721F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4B8-5E3E-4CD5-BC3A-93B7474A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D7B-6ECD-42A9-8ED9-129FD67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92C-7231-41CA-B8BC-69C42EBC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9E7-DD94-4C0E-A54C-888F577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7A5E-E076-41CF-A273-D1BC28C99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ic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lanmo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533412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27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014200">
            <a:off x="-533520" y="990360"/>
            <a:ext cx="8896320" cy="33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cket Diaper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 rot="20308800">
            <a:off x="3430800" y="3885480"/>
            <a:ext cx="5181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sic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ic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helsea"/>
          <p:cNvPicPr/>
          <p:nvPr/>
        </p:nvPicPr>
        <p:blipFill>
          <a:blip r:embed="rId1"/>
          <a:stretch/>
        </p:blipFill>
        <p:spPr>
          <a:xfrm>
            <a:off x="380880" y="228600"/>
            <a:ext cx="2698920" cy="4238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16765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helsea Lamon she is the creator of the pocket di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8769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 of the week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lsea La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lanm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cket Di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cket Diaper was granted on January 11,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helsea Lamon was 8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cket Diaper was a Diaper with a po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d a disposable baby wipe and baby pow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 longer need baby caretak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Inventor: Chelsea Lan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ea Lanmon is a 12 year old residen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lton Texas. She enjoys att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school and is very fond of po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has been an inventor for 7 years.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s 5 she would help her mom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brothers diaper. She knew firs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ious paraphernalia and step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ailed and resolved to create a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5Z</dcterms:created>
  <dc:creator>install</dc:creator>
  <dc:description/>
  <dc:language>en-US</dc:language>
  <cp:lastModifiedBy>install</cp:lastModifiedBy>
  <dcterms:modified xsi:type="dcterms:W3CDTF">2010-05-12T13:12:54Z</dcterms:modified>
  <cp:revision>8</cp:revision>
  <dc:subject/>
  <dc:title>Slide 1</dc:title>
</cp:coreProperties>
</file>